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D8E9-7E34-4C34-AD95-C78196521C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E0A0-2885-42AD-BFB6-DA75628AE92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39CD-3995-446F-BAD4-8A049B20F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A5FA-BC7C-4201-A0DF-16E1C72B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43A6-A24B-4430-B7DC-017D7863B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F8AD-9874-4326-893A-861F1218B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A762-EDE8-47A2-8FC5-92CA0619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9D98-AC2D-4AB6-8687-3673695E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2AF3-CD85-4B8B-9E7C-A7DB9ABB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35ED-3BCA-4A2C-97EB-8E708E05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4EE0-0EC8-4F87-A6D6-AA62DC86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392D-79EA-44BC-B3D3-3F099BCC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9912-76DB-4E48-9803-50C448CD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9FB2-BA50-4111-9903-9D46639E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0F06-508B-4F21-A816-3EB520E8CE4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Instrument Rating -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“Flying in the Clouds”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1066680" y="1547640"/>
            <a:ext cx="7010640" cy="46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y get an Instrument Rating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3352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o fly in Instrument Meterological Conditions (IMC) or under Instrument Flight Rules (IFR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o fly for hire &gt; 50 miles &amp; at nigh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o fly above 18,000 fee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962520" y="1981080"/>
            <a:ext cx="482436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btaining your Instrument Rat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0520" y="160020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ust have at least 50 hours cross-country PIC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Obtain 40 hours of simulated or actual instrument time with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5 hours dual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ne 250 NM cross-country under IF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p to 20 hours in an FAA approved simul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nowledge Tes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actical Tes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4419720" y="1143000"/>
            <a:ext cx="2381040" cy="2381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4267080" y="3581280"/>
            <a:ext cx="457200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st of an Instrument Rat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99840"/>
            <a:ext cx="4038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iper Warrior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0 hours @ $115/hr = $4600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5 hours dual @ $50/hr = $75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AA Knowledge test = $8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actical test = $30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ooks &amp; Suppl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4800600" y="1600200"/>
            <a:ext cx="3782880" cy="2514600"/>
          </a:xfrm>
          <a:prstGeom prst="rect">
            <a:avLst/>
          </a:prstGeom>
          <a:ln w="0">
            <a:noFill/>
          </a:ln>
        </p:spPr>
      </p:pic>
      <p:sp>
        <p:nvSpPr>
          <p:cNvPr id="60" name="TextBox 7"/>
          <p:cNvSpPr/>
          <p:nvPr/>
        </p:nvSpPr>
        <p:spPr>
          <a:xfrm>
            <a:off x="4724280" y="502920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~ $600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Instrument Flying Work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Content Placeholder 7" descr="enroute.JPG"/>
          <p:cNvPicPr/>
          <p:nvPr/>
        </p:nvPicPr>
        <p:blipFill>
          <a:blip r:embed="rId2"/>
          <a:stretch/>
        </p:blipFill>
        <p:spPr>
          <a:xfrm>
            <a:off x="4267080" y="3048120"/>
            <a:ext cx="4764240" cy="362880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6" descr="29 approach.JPG"/>
          <p:cNvPicPr/>
          <p:nvPr/>
        </p:nvPicPr>
        <p:blipFill>
          <a:blip r:embed="rId3"/>
          <a:stretch/>
        </p:blipFill>
        <p:spPr>
          <a:xfrm>
            <a:off x="380880" y="1066680"/>
            <a:ext cx="3733920" cy="5666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4"/>
          <a:stretch/>
        </p:blipFill>
        <p:spPr>
          <a:xfrm>
            <a:off x="4295880" y="1155600"/>
            <a:ext cx="461952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3:01:22Z</dcterms:created>
  <dc:creator> </dc:creator>
  <dc:description/>
  <dc:language>en-US</dc:language>
  <cp:lastModifiedBy>Jeremy Katz</cp:lastModifiedBy>
  <dcterms:modified xsi:type="dcterms:W3CDTF">2008-04-16T00:02:07Z</dcterms:modified>
  <cp:revision>18</cp:revision>
  <dc:subject/>
  <dc:title>The Instrument Rating -  “Flying in the Clouds”</dc:title>
</cp:coreProperties>
</file>